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EEB-DF95-4BB3-9727-6A64CF3A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332-065F-40E3-B0CA-F9B872F4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C24-7C4D-479F-BAB2-5CABEED4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F000-4A5E-49E1-82FE-A2B9865F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E0A1-0BAF-4305-8C2F-56ADEB61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C160-ABEA-4EBD-808E-552BFBE8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1993-DCF3-4323-BF9C-5240A874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2DFF-E8E3-4D8E-8B3E-42A45353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0DD6-7D19-44B4-977C-FE2AC642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4B21-2307-4547-99DE-90CB7B41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9997-9956-423A-BE53-E72CFC13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C58-FABC-40E7-AD4E-F0463E3D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EAA8-7A6E-4FBB-9F89-FCEF364F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3814-B35E-4C94-927B-3ED97646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A945-8428-4671-904C-5E182F87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DBAF-0FDD-415C-9B8C-2C6DF63F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4ECE-0412-44B4-9D54-B2EFB547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334-020B-4BEB-A3E3-0CF46BE2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2605-561C-41AC-A23D-7701C114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2E6-2932-405C-B1F3-8366A375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90F-B2F7-462C-BAD5-FF16744E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254-F7F9-40AC-8F8C-0D508201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E01-C372-4A96-9FAE-12EC2B11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AA1A-CA5D-4419-8B32-EBDB3274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477120"/>
            <a:ext cx="129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1D4E-9FC3-4B5D-8314-6EB75E60B492}" type="slidenum"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08E4-73A9-44A7-AABC-22FC052C5F76}" type="slidenum"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mazon.com/gp/reader/0531155765/ref=sib_dp_pt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video.barnesandnoble.com/search/imageviewer.asp?ean=011301650436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17227"/>
                </a:solidFill>
                <a:latin typeface="Arial Black"/>
              </a:rPr>
              <a:t>The Roman Empire</a:t>
            </a:r>
            <a:endParaRPr b="0" lang="en-US" sz="44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66720" y="36572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Creation of Empir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84" name="Picture 5" descr="Legion1"/>
          <p:cNvPicPr/>
          <p:nvPr/>
        </p:nvPicPr>
        <p:blipFill>
          <a:blip r:embed="rId1"/>
          <a:stretch/>
        </p:blipFill>
        <p:spPr>
          <a:xfrm>
            <a:off x="0" y="3378240"/>
            <a:ext cx="48006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00" y="936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ROMAN ACHEIVEMENT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140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Read your topic and record information into the graphic organizer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2 duos partner and discuss (adjust/amend information)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Create a poster that contains the following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hat was it like before/problem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hat is it?  What did it do? Why was it helpful/important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hat in America is this similar to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6091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 Black"/>
              </a:rPr>
              <a:t>Thesis/Claim Practice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Write a strong claim that answers the following promp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PROMPT: </a:t>
            </a:r>
            <a:r>
              <a:rPr b="0" i="1" lang="en-US" sz="3200" spc="-1" strike="noStrike">
                <a:solidFill>
                  <a:srgbClr val="5c1f00"/>
                </a:solidFill>
                <a:latin typeface="Arial"/>
              </a:rPr>
              <a:t>Analyze the accomplishments that advanced the Roman empire during the Pax Romana (Roman Pax)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The Fall of Rome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Pax Romana ends with Marcus Aurelius (AD 161-180)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ttacks by rival trib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No new resourc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nflation increases due to high tax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ivil War, bankruptcy, division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Diocletian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4114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Doubles the army’s siz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Divides the empire into East and Wes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2" name="Picture 5" descr="Emperor Diocletian (245 - 313 AD)"/>
          <p:cNvPicPr/>
          <p:nvPr/>
        </p:nvPicPr>
        <p:blipFill>
          <a:blip r:embed="rId1"/>
          <a:stretch/>
        </p:blipFill>
        <p:spPr>
          <a:xfrm>
            <a:off x="6789600" y="0"/>
            <a:ext cx="2354400" cy="3124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map_diocletian_tetrachie_kl"/>
          <p:cNvPicPr/>
          <p:nvPr/>
        </p:nvPicPr>
        <p:blipFill>
          <a:blip r:embed="rId2"/>
          <a:stretch/>
        </p:blipFill>
        <p:spPr>
          <a:xfrm>
            <a:off x="4267080" y="3133800"/>
            <a:ext cx="48769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onstantine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Moves Eastern capital to Constantinople (Byzantium)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Weakens the empire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egalizes Christianity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Weakens the customs of Rome, division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6" name="Picture 5" descr="Constantine-Cross-Raphael"/>
          <p:cNvPicPr/>
          <p:nvPr/>
        </p:nvPicPr>
        <p:blipFill>
          <a:blip r:embed="rId1"/>
          <a:stretch/>
        </p:blipFill>
        <p:spPr>
          <a:xfrm>
            <a:off x="5334120" y="3244680"/>
            <a:ext cx="380988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The Fall of the West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Germanic invader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Barbarians (Goths, Visigoths, Vandals)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410 AD (Goths sack Rome)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ttila the Hun and the Mongolian raider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onquer the empire (444 &amp; 452)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9" name="Picture 5" descr="Barbarians%2520015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651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asons for Fall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8600" y="1676520"/>
          <a:ext cx="8534520" cy="5241960"/>
        </p:xfrm>
        <a:graphic>
          <a:graphicData uri="http://schemas.openxmlformats.org/drawingml/2006/table">
            <a:tbl>
              <a:tblPr/>
              <a:tblGrid>
                <a:gridCol w="2133720"/>
                <a:gridCol w="2133360"/>
                <a:gridCol w="2133720"/>
                <a:gridCol w="2133720"/>
              </a:tblGrid>
              <a:tr h="60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</a:t>
                      </a:r>
                      <a:endParaRPr b="0" lang="en-US" sz="2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endParaRPr b="0" lang="en-US" sz="2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</a:t>
                      </a:r>
                      <a:endParaRPr b="0" lang="en-US" sz="2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tary</a:t>
                      </a:r>
                      <a:endParaRPr b="0" lang="en-US" sz="2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 is a burden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of interest and confidence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 harvests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funding for military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tary overtone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loyalty &amp; corruption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ts to trade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rians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 War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 vs. Poor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war plunder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of pride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on of empire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shortages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ation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recruits 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ng the capital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tax burden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 vs. Poor</a:t>
                      </a:r>
                      <a:endParaRPr b="0" lang="en-US" sz="20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Primary Source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137160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Primary Source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Produced by eyewitnesses to event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Examples: Diaries, Letters, Interviews, Autobiographies, Artifacts, &amp; Paintings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onvey personal experiences: Often give an emotion &amp; opinion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4" name="Picture 2" descr="http://rds.yahoo.com/_ylt=A0WTeff9Tw5JkmwB2bejzbkF/SIG=12ifp7nou/EXP=1225761149/**http%3A/www.factmonster.com/images/bookCover-DiaryAnneFrank.jpg"/>
          <p:cNvPicPr/>
          <p:nvPr/>
        </p:nvPicPr>
        <p:blipFill>
          <a:blip r:embed="rId1"/>
          <a:stretch/>
        </p:blipFill>
        <p:spPr>
          <a:xfrm>
            <a:off x="6934320" y="3578400"/>
            <a:ext cx="1904760" cy="32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17227"/>
                </a:solidFill>
                <a:latin typeface="Arial Black"/>
              </a:rPr>
              <a:t>Secondary Sources</a:t>
            </a:r>
            <a:endParaRPr b="0" lang="en-US" sz="36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520" y="12189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 information gathered from other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s: Textbooks &amp; Biographi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elp to understand events in a larger contex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7" name="Picture 2" descr="A History of the Holocaust (Single Title Social Studi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3429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Analyzing Sources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3160" y="13716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termine the reliability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P: Author &amp; when written (right after the event or much later)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: Good documentation (sources cited)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valuate for bia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0" name="Picture 2" descr="Greatest Generation with Tom Brokaw: DVD Cov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3962520"/>
            <a:ext cx="205416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Julius Caesar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actions develop in Rom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aesar is Consul and leads an army into Gau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87" name="Picture 5" descr="rome"/>
          <p:cNvPicPr/>
          <p:nvPr/>
        </p:nvPicPr>
        <p:blipFill>
          <a:blip r:embed="rId1"/>
          <a:stretch/>
        </p:blipFill>
        <p:spPr>
          <a:xfrm>
            <a:off x="152280" y="474840"/>
            <a:ext cx="86108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aesar defeats Gaul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roops swear loyalty to the great leader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Pompey gains power and orders Caesar to disband and return to Rom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0" name="Picture 5" descr="vercin3"/>
          <p:cNvPicPr/>
          <p:nvPr/>
        </p:nvPicPr>
        <p:blipFill>
          <a:blip r:embed="rId1"/>
          <a:stretch/>
        </p:blipFill>
        <p:spPr>
          <a:xfrm>
            <a:off x="1752480" y="3173400"/>
            <a:ext cx="56390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817227"/>
                </a:solidFill>
                <a:latin typeface="Arial Black"/>
              </a:rPr>
              <a:t>King?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aesar breaks Roman law and marches an army across the Rubicon River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Defeats Pompey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44 BCE – named dictator for lif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3" name="Picture 5" descr="pompey"/>
          <p:cNvPicPr/>
          <p:nvPr/>
        </p:nvPicPr>
        <p:blipFill>
          <a:blip r:embed="rId1"/>
          <a:stretch/>
        </p:blipFill>
        <p:spPr>
          <a:xfrm>
            <a:off x="6553080" y="3763800"/>
            <a:ext cx="259092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Caesar’s Reign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itizenship to the conquered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Places allies in the Senat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reates public jobs for the poor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Ruled as a tyrant!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Marcus Brutus and Gaius Cassius assassinate him outside of the Senate (Tarquin)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8" name="Picture 5" descr="julius caesar cartoons, julius caesar cartoon, julius caesar picture, julius caesar pictures, julius caesar image, julius caesar images, julius caesar illustration, julius caesar illustrations"/>
          <p:cNvPicPr/>
          <p:nvPr/>
        </p:nvPicPr>
        <p:blipFill>
          <a:blip r:embed="rId1"/>
          <a:stretch/>
        </p:blipFill>
        <p:spPr>
          <a:xfrm>
            <a:off x="0" y="0"/>
            <a:ext cx="3705120" cy="380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julius caesar cartoons, julius caesar cartoon, julius caesar picture, julius caesar pictures, julius caesar image, julius caesar images, julius caesar illustration, julius caesar illustrations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381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aesarAssassination"/>
          <p:cNvPicPr/>
          <p:nvPr/>
        </p:nvPicPr>
        <p:blipFill>
          <a:blip r:embed="rId3"/>
          <a:stretch/>
        </p:blipFill>
        <p:spPr>
          <a:xfrm>
            <a:off x="0" y="3797280"/>
            <a:ext cx="3886200" cy="306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julius-caesar-statue"/>
          <p:cNvPicPr/>
          <p:nvPr/>
        </p:nvPicPr>
        <p:blipFill>
          <a:blip r:embed="rId4"/>
          <a:stretch/>
        </p:blipFill>
        <p:spPr>
          <a:xfrm>
            <a:off x="6832440" y="3733920"/>
            <a:ext cx="2311560" cy="3124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caesar"/>
          <p:cNvPicPr/>
          <p:nvPr/>
        </p:nvPicPr>
        <p:blipFill>
          <a:blip r:embed="rId5"/>
          <a:stretch/>
        </p:blipFill>
        <p:spPr>
          <a:xfrm>
            <a:off x="3886200" y="380988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c1f00"/>
                </a:solidFill>
                <a:latin typeface="Arial Black"/>
              </a:rPr>
              <a:t>A Vast and Powerful Empire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ugustus is respected for the following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Expanded to empire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Defeating many tribes and rival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tarting amazing building project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He also created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Grain allowances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ostal Service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5" name="Picture 5" descr="ac822933"/>
          <p:cNvPicPr/>
          <p:nvPr/>
        </p:nvPicPr>
        <p:blipFill>
          <a:blip r:embed="rId1"/>
          <a:stretch/>
        </p:blipFill>
        <p:spPr>
          <a:xfrm>
            <a:off x="4876920" y="4114800"/>
            <a:ext cx="4267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PAX ROMANA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3 Million square mile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60-80 million Roman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90% of economy is based on agricultur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People and ideas move along trade routes cultural diffusion!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8" name="Picture 5" descr="augustus"/>
          <p:cNvPicPr/>
          <p:nvPr/>
        </p:nvPicPr>
        <p:blipFill>
          <a:blip r:embed="rId1"/>
          <a:stretch/>
        </p:blipFill>
        <p:spPr>
          <a:xfrm>
            <a:off x="3886200" y="4343400"/>
            <a:ext cx="1768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7227"/>
                </a:solidFill>
                <a:latin typeface="Arial Black"/>
              </a:rPr>
              <a:t>PAX ROMANA</a:t>
            </a:r>
            <a:endParaRPr b="0" lang="en-US" sz="4000" spc="-1" strike="noStrike">
              <a:solidFill>
                <a:srgbClr val="817227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2280" y="1904760"/>
            <a:ext cx="5562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oliseum (Bread and Circus)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rum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1" name="Picture 2" descr="http://rds.yahoo.com/_ylt=A0WTefWYNQVJtWQA9e2jzbkF/SIG=12qjncj7j/EXP=1225164568/**http%3A/82.171.153.83/forum2/fotoalbum/foto/9/1/2/colosseum-in-Rome.jpg"/>
          <p:cNvPicPr/>
          <p:nvPr/>
        </p:nvPicPr>
        <p:blipFill>
          <a:blip r:embed="rId1"/>
          <a:stretch/>
        </p:blipFill>
        <p:spPr>
          <a:xfrm>
            <a:off x="0" y="4505400"/>
            <a:ext cx="3333600" cy="2352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rds.yahoo.com/_ylt=A0WTefUGNgVJWGUACtCjzbkF/SIG=19upk0haa/EXP=1225164678/**http%3A/www.tropicalisland.de/italy/rome/forum_romanum/images/FCO%2520Rome%2520-%2520Roman%2520Forum%2520Romanum%2520-%2520Arco%2520di%2520Settimio%2520Severo%2520or%2520Arch%2520of%2520Septimus%2520Severus%2520with%2520Tempio%2520di%2520Saturno%2520or%2520Temple%2520of%2520Saturn%25203008x2000.jpg"/>
          <p:cNvPicPr/>
          <p:nvPr/>
        </p:nvPicPr>
        <p:blipFill>
          <a:blip r:embed="rId2"/>
          <a:stretch/>
        </p:blipFill>
        <p:spPr>
          <a:xfrm>
            <a:off x="3200400" y="2906640"/>
            <a:ext cx="5943600" cy="395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Roman Chariots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01:46:57Z</dcterms:created>
  <dc:creator>Gail Kuenzi</dc:creator>
  <dc:description/>
  <cp:keywords/>
  <dc:language>en-US</dc:language>
  <cp:lastModifiedBy>Kuenzi, Robert</cp:lastModifiedBy>
  <dcterms:modified xsi:type="dcterms:W3CDTF">2014-11-17T16:14:46Z</dcterms:modified>
  <cp:revision>23</cp:revision>
  <dc:subject/>
  <dc:title>The Roman Emp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531033</vt:lpwstr>
  </property>
</Properties>
</file>